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3EA5-0D38-4F76-9BBC-646D7A1D3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DB54-C567-4470-8D5A-3D32C76A4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C2CD-2641-40EA-8A5B-6096A1D5E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B2F3-0041-4FF7-8178-8E3695D4E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0153-213A-41BB-BE39-AA3B3434B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C9C0-6941-4886-962A-B81B8C447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CDDF-1B27-4EC0-99A8-E1F6E6F93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C600-57E2-4870-BC65-E3F98333E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CC08-720F-464B-879E-B099D2607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56BE-30BA-4542-B2CD-57829F7A0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73D7-425A-4F9F-91F8-9D1803327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91E1-C3A8-4881-89A2-D18615426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B965DCD-66F7-4510-8578-2EEDCEA9DA0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6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6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1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1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0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3-19T12:09:31Z</dcterms:modified>
  <cp:revision>1</cp:revision>
  <dc:subject/>
  <dc:title/>
</cp:coreProperties>
</file>